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71D4B-A701-4452-BF3F-EFE41B88BF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955D6-38B7-4C35-B64A-902F91901B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6B17E-BCA1-43E3-BDED-D60C2ADB0A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66959-687A-4D46-97C7-1328246614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C48C7-277E-4CB3-A89B-A800B4DA34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50E3A-8621-4733-BA41-30FE9694C4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ED6-7089-46A9-922A-66849E56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4C2-4523-4562-B47D-60B13C57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710-BD35-471C-9813-29CBAF10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B71-2D16-413A-A03C-99EC4EAE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D13F-2BAB-47E2-8570-088B35BC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77A8-9A57-4216-952D-9562A4E8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B402-5F5E-4104-85C4-8A738644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2442-1D08-4469-BDE1-A144EB60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966-32A5-43DB-883D-9A2A8CE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C94F-4BAB-46C1-B9CA-91A30B98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99F3-7E7B-4E44-BCB1-DB0310FE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271-31AA-4C3F-9515-A255FBB2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A42E-9042-4777-B62C-3B80E3F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C947-0EB5-4FC8-8AEC-E96FE745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4291-B56F-4C96-A9A5-FF714EAE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9708-913F-4C67-8246-7FF1A853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2F47-B2C5-4CF3-9067-0DD8FB80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84F3-E9AA-49D5-AB78-783E18A6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49DC-FC94-43DF-9DAA-2F0AA8C7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8955-952C-4DE0-8A24-9843EDDC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9773-8EB5-4390-89F9-2B6847DB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D3E3-16F9-4FB3-8350-4AF3F34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D37-E349-45D2-B2CF-43EB162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666D-D064-41A1-A20F-52F4A462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93CA-681F-425A-8DD6-286B320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0CCA-6C24-4618-9C54-46BC0756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9788-8971-4202-947E-FF8B5DEE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7C7A-E28C-4D1E-9CCB-D8CFEDE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9C4C-CD14-4EFA-B8F5-33B7CD4F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B887-4B5C-49A8-B2D3-2D0DD7AA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C518-E2CA-406E-B269-E40E6EBD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9D38-7EFB-4C1E-A7E7-5ED8EEB2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9370-7EDB-4D30-9DE7-C8209513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112-EF24-4388-8091-E8FF5FDD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7D35-07EF-471C-903B-557C69C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EED1-A93A-479E-819F-FA2F090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DD18-91E2-4610-8696-973BCEDC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68E5-AA83-4D0F-80F6-B554E95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E2D7-6E75-4CCE-9753-7A42DE6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E892-520A-4DED-86AE-6E02E33A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7D04-9D91-400E-A5B0-E21BA7BC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1F8D-CC8D-4AEB-8B62-39A04F5A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871F-62DE-45A7-9C95-A44CF65C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E1AD-1164-4390-8E03-354A6838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686-328C-443F-A1CA-185790C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3AF7-A94D-4EE1-B7B3-4087229A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FC039-A37A-4201-8731-A1ADB4D3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482E-96E3-42A5-9DB6-94B02223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4486-EB5A-4E3E-ADAF-AA6CC5C1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E247F-1058-4052-BB47-EE8B61A7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8CEFB-F729-486B-9D82-210D4BA3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5D9A-913B-4403-99EE-3AA2CACD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7B61-1C57-47DC-8FC3-1E235E1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AFF20-159E-44D6-85ED-11F8012B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FF0A7-AD00-442B-B729-C212EF42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126-6871-462B-AF8D-20FE92EA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FF8B8-2B82-4CF0-9D5B-7FB0D958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E0F5C-DACD-4D00-81C7-67F57A64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21BA-E726-4D57-BF85-406F92C0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99DD1-582E-46F9-9EFD-E0B4033F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477B-3F94-4143-B81B-6F80AFE1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75D8-B956-461F-83C5-94D56835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099E-CFE8-4DB0-8F84-A5C1E46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D669-F488-48D5-AABC-C2E6FFF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73C3-386D-40E1-9079-38CD2A73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F5EE6-66E8-48AC-A658-032D539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4AC-1883-4A40-87A0-34C2982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E88F-D59B-4260-B5BE-E0F52FB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4DA3-4EAC-4BAA-BF94-D779700E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BAFD-A7C3-4341-90D5-9CAC908D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434C8-1B37-4E00-BDA6-C9C4F32D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E607D-A05C-4318-8B93-8DA3B9B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DFBB4-84F4-4B1A-8B11-68AAE27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C3D7-1DC8-47EA-A045-EC2E23AD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C023-5B95-41B6-8635-A5F2ADB5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903AC-8C13-4442-9535-AA9E7C84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619C-882D-49B8-B646-9DA4009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BA6-0E92-4E12-8C3D-B0F76EA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1D9F9-7900-49D9-9D6F-4F6F332A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86CF-D335-4E5B-94DE-F66E8962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C053C-315B-4E7D-948A-D904AFE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5F2D-3CD1-45A1-9536-1D2325F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FD5D-808B-4F26-AF97-407CD266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ECE-7467-410D-AE8E-BAB3B373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973704-6DBE-43C7-B076-2A38FC32653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221EF4-88F7-4D54-8847-E36B16A15F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0B6C2C-092E-4922-9A82-E35AF56C533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C71A14-9C64-4AF7-A405-D7024ADABD2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44B737-F98C-414E-A1A8-7B0258E87B5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B2147F-B358-45E7-B87E-915F04A9C8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A1C378-064A-4737-ACAA-6897B13FDDE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2E8E0B-5682-498A-9684-B11C9A53415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5A0FC4-A1A0-4234-A7B8-5B7779B96D85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3D3A0D-622B-438A-B1DA-FA2C766775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F76D63-48FE-490C-8530-75C3CEA165F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A60466-04D8-48F1-9810-1FFB783577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FCC9BE-E2FE-4369-A18C-59E348BFF4A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A3045B-2A03-489F-9A2C-C7F30AD134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docid=B7MDVP4A0p0peM&amp;tbnid=cwoHe1Ro9XrUYM:&amp;ved=0CAUQjRw&amp;url=http://www.mordovmedia.ru/news/society/item/26192/&amp;ei=p51zU6r5B4yK4gTGsoDoCA&amp;bvm=bv.66699033,d.bGE&amp;psig=AFQjCNH8qMHMS9IDKZEJUKqPLi0_WcE6EA&amp;ust=1400172259756400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258920" y="209520"/>
            <a:ext cx="7170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ДЛЯ ГРАЖДАН КРАСНОДОЛИ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2.12.2022 года № 3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23 год и плановый период 2024-2025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3405240" y="3321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2"/>
          <a:stretch/>
        </p:blipFill>
        <p:spPr>
          <a:xfrm>
            <a:off x="6464160" y="2276640"/>
            <a:ext cx="2478240" cy="2089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C:\Users\Irina\Desktop\фото\для Усиковой\18000_20110824_231934.jpg"/>
          <p:cNvPicPr/>
          <p:nvPr/>
        </p:nvPicPr>
        <p:blipFill>
          <a:blip r:embed="rId3"/>
          <a:stretch/>
        </p:blipFill>
        <p:spPr>
          <a:xfrm>
            <a:off x="395280" y="1844640"/>
            <a:ext cx="2590920" cy="22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293e0"/>
                </a:solidFill>
                <a:latin typeface="Times New Roman"/>
                <a:ea typeface="Microsoft YaHei"/>
              </a:rPr>
              <a:t>Бюджет для граждан» познакомит вас  о бюджете Краснодолинского сельсовета Советского района Курской области  на  2023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бюджет поселения затрагивает интересы каждого жителя  Краснодолин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Picture 2" descr="http://www.mordovmedia.ru/media/news/26192/afa853c20873dc823792c1a5128ce2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3400"/>
            <a:ext cx="3392280" cy="2543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ANd9GcQUOFnWck6Zdu4Icj3J8vpq53AENRbM9wXp0CyVohQ3AI-8w0lg"/>
          <p:cNvPicPr/>
          <p:nvPr/>
        </p:nvPicPr>
        <p:blipFill>
          <a:blip r:embed="rId3"/>
          <a:stretch/>
        </p:blipFill>
        <p:spPr>
          <a:xfrm>
            <a:off x="5724360" y="4121280"/>
            <a:ext cx="3083040" cy="2447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vlfin.ru/assets/uploads/%D0%A1%D1%85%D0%B5%D0%BC%D0%B0%20%D0%B1%D1%8E%D0%B4%D0%B6%D0%B5%D1%82%D0%B0-2.jpg"/>
          <p:cNvPicPr/>
          <p:nvPr/>
        </p:nvPicPr>
        <p:blipFill>
          <a:blip r:embed="rId1"/>
          <a:stretch/>
        </p:blipFill>
        <p:spPr>
          <a:xfrm>
            <a:off x="396720" y="824040"/>
            <a:ext cx="8344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Name</cp:lastModifiedBy>
  <dcterms:modified xsi:type="dcterms:W3CDTF">2022-12-24T15:41:01Z</dcterms:modified>
  <cp:revision>490</cp:revision>
  <dc:subject/>
  <dc:title>Слайд 1</dc:title>
</cp:coreProperties>
</file>