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3AB30-F14F-43FC-81F4-80FA2E81F2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BE18-709A-419E-9132-7901E58F1C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3F14A-394F-4D4D-9F90-25274DF598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373BC-2372-43F8-99AD-1199F13495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98798-8009-44FD-831A-64F25E93B8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EE2F4-6E53-49BB-9D05-EE08D49DF2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6E1-209D-4F8C-9DD3-93B1E101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456-063F-465D-A8FA-EA92C84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49C-375B-46D9-B8DB-2C3245DF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9FC-6319-452B-B4ED-9FCE0114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A1E7-D8D7-4290-B7F5-76F1FB4F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93F3-B417-4C64-A334-9C6B240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EE8-4F9A-4934-8693-AA45F024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7667-BA52-4CCA-A5CD-FDBB8152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8C95-6662-4B7E-AAA6-B07F880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8375-0131-4599-9E22-FD1FB7D0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8874-75B0-4051-BB03-4637455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0FB-BAD4-48EA-9A2E-4E4816E6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0976-A1DA-41C8-B229-52BB2CF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6D4C-FA0C-4461-873C-9D91D60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C5C-2C43-48AC-9668-8E8C5CA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0DAB-09B6-4DC4-9F9A-AAA435B6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7A20-3604-45AB-9A10-356A4490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E09E-A9FF-4727-A235-85780EC9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84F9-4F18-420D-BE55-F185D2B8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6783-FEF9-4DA8-A1AA-E3E4863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0C62-574C-4788-8256-398E9F3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FE2E-2332-4E51-8552-D9D73AE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C08-9F0B-493C-8A6B-F3003AD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ABE4-872A-44C9-943C-1041FAA7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2534-874A-4753-81B6-598FC59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1A7D-6C87-4E4A-85C9-40207D8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C407-4541-4DEE-ACB3-1DBF114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0E07-62C2-4883-A42A-E3FD014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7F69-90EF-42BE-84A1-9C324886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A43D-5825-4645-905A-BDFA80B8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75DE-22D6-4503-A7A9-C23FC10C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D96A-1EE9-441A-B32A-B5BDCFAE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0198-84E6-498E-A10E-BC2A2C21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236-A4E5-4125-9C7D-DD9DB12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35BD-2735-4F10-ADDD-DDACBA9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EBF3-F7E6-405E-A1BA-DDEE1AA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8E0F-684A-40B8-9C22-3BDC28BC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D835-ECC4-44AD-9EF2-35EF1F3E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554C-D2B2-4D80-A36D-77E8496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F914-EB26-4389-ACDF-6572830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EF37-66D4-4357-A0B7-B9C3F3F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5EF7-F342-4EA4-A73D-698D3941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DA3F-5229-4F80-AEA3-A5FE4542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0ADE-B513-4E5B-9B65-1CAC4EAF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244-E89D-474F-9133-49C87E01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3789-2850-4972-858F-6A69DE07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A7AB-56DB-4817-804B-57EC3BCD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06152-2A2D-42CC-9E25-C543BAF2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40A3-03DA-4A3A-9AC5-9A08F81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2E9A-17F8-4C08-9770-FCF3E1C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83F15-CFB3-4734-A4AF-BC9E2EC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4777A-14D4-47F7-A435-686E7ECC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A6B7-C56E-4396-919A-D3EA339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7BEB-0331-4ED8-9DF6-C2A8E3E5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77A1-6B5C-4C10-9130-B6A5B94A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9D9-2971-42CC-A02A-AA0113D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50C4-01E5-4B20-AE92-3DBC458C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1898-6CFE-4457-A10A-9752FADD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45C3-5B72-4399-AB89-BE94AD9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27AC-629C-4E18-B2F8-30987401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81A3-205B-40B9-86BE-100FA32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8461A-3179-46DB-929D-072B8A2E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5DB5-606E-4EA4-AEED-C02C62E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B0C18-C68E-4670-9BD8-D2C7B143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940A4-2CC6-41A7-829F-CA03A6D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04C1-1549-4B05-A9BB-EBC5C42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3FE-C060-49FD-B5DD-2A95BC5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34658-8DC8-41EF-815F-4458B796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7DDB3-178A-4BE2-9CDD-5B8D6FB8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CF2E2-B170-4FB5-8E80-0FD7F0F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E443F-B050-4C70-A70B-5500A8DB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C2EE-120C-4FB6-A654-73DDA101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B0C4-A4C6-4368-87FC-1624B7BC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F317-54F8-42BB-827D-FBE6FB5B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4F537-124F-4E45-9D62-A39F26F1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B121-9F17-491A-9AA9-C56299F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30DB-A821-49E6-9198-0CB871C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E39-C3E0-40CF-8129-15A0667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BE99C-6773-4F33-AC9D-7A0E5E9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A215F-6053-4EE3-A084-2CF2E6A1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6E467-8BBB-48A5-A2EA-C4AB94E1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022D5-7CFF-4571-BFEE-FDCFA8E1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BFF2-7989-4B94-B63B-93AE2FA2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C0C-2C99-4503-BE05-3CE8E01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28192D-E156-4D6C-A741-622E411C961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25D4B5-BEC8-4D99-8CCC-563171C2B0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1D4636-AA1B-4146-B687-642C0FB08BF6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C6AF54-6B8B-46D9-BAC8-477D996FA8E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277399-91C0-49C4-B313-DBBB5782534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241E25-DE24-469D-8D44-425A4C8BF8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795B9B-9577-4491-A872-5D1CEC479E7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56E7FF-4ED3-4564-A580-BCDE83E63B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51A73-A051-42DE-B722-22C21814BAC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51AE13-453C-4C43-85E7-91573156C9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4BB837-60BC-4796-95D5-D0073769C7A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1F98BC-5AD3-4463-B6CB-BD9F86372C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055589-B20E-4D28-9C0C-D10DE0FECC7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65BEDD-91D5-42FD-8D9D-B70519B23D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B7MDVP4A0p0peM&amp;tbnid=cwoHe1Ro9XrUYM:&amp;ved=0CAUQjRw&amp;url=http://www.mordovmedia.ru/news/society/item/26192/&amp;ei=p51zU6r5B4yK4gTGsoDoCA&amp;bvm=bv.66699033,d.bGE&amp;psig=AFQjCNH8qMHMS9IDKZEJUKqPLi0_WcE6EA&amp;ust=140017225975640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258920" y="333360"/>
            <a:ext cx="7170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ДЛЯ ГРАЖДАН КРАСНОДОЛ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0.12.2021 года № 30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22 год и плановый период 2023-2024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3405240" y="3321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6464160" y="2276640"/>
            <a:ext cx="2478240" cy="2089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C:\Users\Irina\Desktop\фото\для Усиковой\18000_20110824_231934.jpg"/>
          <p:cNvPicPr/>
          <p:nvPr/>
        </p:nvPicPr>
        <p:blipFill>
          <a:blip r:embed="rId3"/>
          <a:stretch/>
        </p:blipFill>
        <p:spPr>
          <a:xfrm>
            <a:off x="395280" y="1844640"/>
            <a:ext cx="2590920" cy="22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  <a:ea typeface="Microsoft YaHei"/>
              </a:rPr>
              <a:t>Бюджет для граждан» познакомит вас  о бюджете Краснодолинского сельсовета Советского района Курской области  на  2022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Краснодолин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Picture 2" descr="http://www.mordovmedia.ru/media/news/26192/afa853c20873dc823792c1a5128ce2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3400"/>
            <a:ext cx="3392280" cy="2543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ANd9GcQUOFnWck6Zdu4Icj3J8vpq53AENRbM9wXp0CyVohQ3AI-8w0lg"/>
          <p:cNvPicPr/>
          <p:nvPr/>
        </p:nvPicPr>
        <p:blipFill>
          <a:blip r:embed="rId3"/>
          <a:stretch/>
        </p:blipFill>
        <p:spPr>
          <a:xfrm>
            <a:off x="5724360" y="4121280"/>
            <a:ext cx="3083040" cy="2447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vlfin.ru/assets/uploads/%D0%A1%D1%85%D0%B5%D0%BC%D0%B0%20%D0%B1%D1%8E%D0%B4%D0%B6%D0%B5%D1%82%D0%B0-2.jpg"/>
          <p:cNvPicPr/>
          <p:nvPr/>
        </p:nvPicPr>
        <p:blipFill>
          <a:blip r:embed="rId1"/>
          <a:stretch/>
        </p:blipFill>
        <p:spPr>
          <a:xfrm>
            <a:off x="396720" y="824040"/>
            <a:ext cx="8344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Name</cp:lastModifiedBy>
  <dcterms:modified xsi:type="dcterms:W3CDTF">2022-01-05T19:30:31Z</dcterms:modified>
  <cp:revision>486</cp:revision>
  <dc:subject/>
  <dc:title>Слайд 1</dc:title>
</cp:coreProperties>
</file>