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commentAuthors.xml><?xml version="1.0" encoding="utf-8"?>
<p:cmAuthorLst xmlns:p="http://schemas.openxmlformats.org/presentationml/2006/main">
  <p:cmAuthor id="0" name="Irina" initials="I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21-02-17T13:07:04.80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76934-B3BF-4A63-8970-CE991095B82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51285-AEEF-49A6-A1AC-897236F51B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34626-9919-4C97-BC19-F1D48387563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A1440-5505-41A3-A543-38599B626C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E3651-6692-460D-BBCE-CCE1FB5BED7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157A0-E899-426E-B323-1D10A9663F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36246-02E1-4E3B-83FB-B57CB454262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34C7-B581-48D4-A917-2275BB084E0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7C7CF-93D7-4C36-BF30-42CED9649B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2FEE3-BFAC-4C2F-BD25-4E58447225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D6C50-FBCD-4466-9F6C-90C55A054D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CE7E5-D5CC-4DC0-9ABD-5C30E5E228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118AC-F1A1-4C7B-98DD-0EAF4BC2E9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85F-CB10-4947-87A0-192189AF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C02-5CC1-4D84-A5A6-4DC9E05B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A3A-5A49-4764-8C73-D0ED1356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BB8-0C3D-4D17-8E13-C36FC754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DF12-E984-4A65-A0C5-3EB8AC2F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3B22-C350-45E4-A53A-D2D0E421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A5C6-635F-425E-85E3-C9178B55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42CF-F888-4283-9582-014B761B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9A70-EEE6-4D21-96A5-343FA56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465A-1435-4D5B-A1F0-AFFF9F33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6EA8-288A-4615-A859-9F33048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163-947C-47C5-8BE1-F0E38B21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69C-13D1-4E71-ADB5-185FF236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8039-0FD9-4463-925A-713D59A2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3F95-E29F-4952-95A0-CF45F60D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2BA6-92E1-4CFA-9BEA-0BC43D40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321F-88DB-4DFA-9A94-BA59EA6E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6750-C5DB-4EA7-975E-1B06898D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F00C-6D0C-490A-91D8-08F0449F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B1AB-DB2C-4F51-A77E-BEDB9995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2B61A-913D-4CB6-AACC-50B25695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AE2E-3131-48CC-800D-235A617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A6E-A291-4909-A6F9-A1EBD5F1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8993-F4A1-4EC5-8C09-73ED6612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55A1-97C3-4152-BDF6-0A7D1F1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899E-4DCF-482E-97FC-64F6652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15ED-EDBA-4E07-A06E-2C30CEB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9F41-2E5F-4E85-8B55-AC664703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7B63-F215-4321-87D5-8F633005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A387-0621-4B2B-B396-47C49E57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B226-1329-474E-A821-29C9F3D1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94CA-5E31-4A29-ACF9-123066B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7DC7-6AE6-40CB-87B3-703720B3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509-9B81-4694-BEA0-EB1B4D22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7EA5-DCD9-4998-995C-44B7A1FE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83E9-1C4B-4702-9871-CF86E44E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AA77-1053-4E18-AB4A-A125C066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155A-535B-4DF7-A4DA-CE7A6851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077A-3911-4EE4-9E75-5555F72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06F7-0436-4B11-A77A-204269E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7B9C-397D-4992-ACC6-9F72034D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EF0C-1B4B-42BE-8E88-1C665B07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753A-CEE6-4BCD-A6E2-6D5480FF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833DC-17CF-4693-8B0C-55FAAE7D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61B-C97D-408C-B20A-8F6463D9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BDB73-86C6-42B5-8F90-7D656126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C076-15F0-46FC-8741-094FE53F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7BB4-560E-4947-B6A3-5B3DE6EF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5DB8-2AB1-4822-A9FB-83989697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CE0A2-7CFD-4C05-B544-8CC327D8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2821-2342-46B0-A920-03ACBA2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07E4-2F5C-4BED-9D09-CA6BC24F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A65F-A29A-44F3-B613-109BC0C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51109-74E7-42DF-A7E8-73D3403D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917B-AAAC-43AB-9DC3-734E4235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473-7477-4866-A0B8-3F147C2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CD010-D983-48A0-BBC4-08625732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71B5-DB06-4ACD-BFA8-6E82EE25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C0879-8841-4004-96B5-A6CB68C1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15A3-1976-485C-9CA9-6D9CBC1E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91255-560F-4F41-9F43-D9AF20E8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2B92-2549-4866-B84A-143D89C2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6A76A-69CA-43F8-9E5D-F86C540B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12BD0-ECD8-48BB-8631-4A129BB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BE441-82A3-49B7-B6C8-4029208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7A1D-DCFD-4D07-A106-F4C922C2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7F3-785A-4AC0-BA0E-358151A5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9357-C95F-4869-BFFC-1EE40CD0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CA2E-E14D-431D-B8F0-B3A77AA2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66982-6315-4D04-9B5B-7A1EF090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E2DE1-CFC2-4B9C-BC16-6C3D8C8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341E-A26B-4542-A229-13DB5A86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FB4C7-E15A-44AB-A74F-ECE43BC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2D588-2AF4-416F-8938-8563D95F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E19F-68BB-489A-9B89-5D54F812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24BAD-600D-4EC8-A649-0F84E21C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84F53-B597-4C03-9F87-8C62C62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D57-5A88-46C2-8F16-F5CFBE04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5B81A-09B6-42C1-8720-8DCFED11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4B06A-48FE-46DC-939E-889C5B33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A5FF9-7AB4-4E9E-93EB-D55A817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EEFBA-C41C-4C17-9DA8-94951551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4A1B-3420-4007-A8F3-645681C4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865-0239-4676-B16D-F4D8B685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1A2D85-9260-4089-A63E-BAF3BAAAD54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9ED8B0-0456-4BC2-B561-4C5A8B128EC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C815A3-2666-4AF5-A008-3EF064C85DB4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C794D9-2CC0-494E-9848-15A400260D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45D374-71D8-4F4D-BC19-37377BFC09B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9F70D4-13A1-4BEA-A183-631D9CB5402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F72019-5C63-4232-B6E8-3498E2EEFA24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2E06A5-CECF-4890-92AE-F702FD4473A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E49D7B-1EDD-473E-A0CC-693F39E00E8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ED8B01-AEF1-4122-95FE-901B6748434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CCFA99-CE27-4915-8EE3-DDDB3B8FFBA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41E130-F050-4786-915E-E6B166A35B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8100C7-AE9E-49C8-847A-7A0E6876C36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C8EDD7-96DA-45E7-AAC8-21A8E91A92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docid=cvuwZfYeEDYltM&amp;tbnid=Ak7xZJfwXNc5DM:&amp;ved=0CAUQjRw&amp;url=http://nepozdnonachat.ru/raspisanie-vebinarov-vvo&amp;ei=YKRzU6lzpfXhBLHOgfgJ&amp;bvm=bv.66699033,d.bGE&amp;psig=AFQjCNHPMY2-UrKltEwGyLYOsYNoxeYdnA&amp;ust=1400173884886856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docid=B7MDVP4A0p0peM&amp;tbnid=cwoHe1Ro9XrUYM:&amp;ved=0CAUQjRw&amp;url=http://www.mordovmedia.ru/news/society/item/26192/&amp;ei=p51zU6r5B4yK4gTGsoDoCA&amp;bvm=bv.66699033,d.bGE&amp;psig=AFQjCNH8qMHMS9IDKZEJUKqPLi0_WcE6EA&amp;ust=1400172259756400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258920" y="333360"/>
            <a:ext cx="71708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КРАСНОДОЛИН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2.05.2021 года № 12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б исполнении бюджета Краснодолинского сельсовета Советского района Курской области за 2020 год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3405240" y="3321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2"/>
          <a:stretch/>
        </p:blipFill>
        <p:spPr>
          <a:xfrm>
            <a:off x="6464160" y="2276640"/>
            <a:ext cx="2478240" cy="2089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C:\Users\Irina\Desktop\фото\для Усиковой\18000_20110824_231934.jpg"/>
          <p:cNvPicPr/>
          <p:nvPr/>
        </p:nvPicPr>
        <p:blipFill>
          <a:blip r:embed="rId3"/>
          <a:stretch/>
        </p:blipFill>
        <p:spPr>
          <a:xfrm>
            <a:off x="395280" y="1844640"/>
            <a:ext cx="2590920" cy="22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Содержимое 6"/>
          <p:cNvGraphicFramePr/>
          <p:nvPr/>
        </p:nvGraphicFramePr>
        <p:xfrm>
          <a:off x="398520" y="660240"/>
          <a:ext cx="822168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1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660240"/>
                    <a:ext cx="82216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Candara"/>
                <a:ea typeface="Times New Roman"/>
              </a:rPr>
              <a:t>Расходы по исполнению бюджета Краснодолинского сельсовета Советского района Курской области на культуру в 2020 году </a:t>
            </a:r>
            <a:r>
              <a:rPr b="0" lang="ru-RU" sz="2000" spc="-1" strike="noStrike">
                <a:solidFill>
                  <a:srgbClr val="cc0000"/>
                </a:solidFill>
                <a:latin typeface="Candara"/>
                <a:ea typeface="Times New Roman"/>
              </a:rPr>
              <a:t>– 3082,0 тыс. рублей</a:t>
            </a:r>
            <a:r>
              <a:rPr b="0" lang="ru-RU" sz="2000" spc="-1" strike="noStrike">
                <a:solidFill>
                  <a:srgbClr val="ffffff"/>
                </a:solidFill>
                <a:latin typeface="Candar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Picture 10" descr="C:\Users\Irina\Desktop\фото\для Усиковой\DSC04237.JPG"/>
          <p:cNvPicPr/>
          <p:nvPr/>
        </p:nvPicPr>
        <p:blipFill>
          <a:blip r:embed="rId3"/>
          <a:stretch/>
        </p:blipFill>
        <p:spPr>
          <a:xfrm>
            <a:off x="417600" y="1628640"/>
            <a:ext cx="4441680" cy="2521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Users\Irina\Desktop\фото\усикова\День района\DSC04719.JPG"/>
          <p:cNvPicPr/>
          <p:nvPr/>
        </p:nvPicPr>
        <p:blipFill>
          <a:blip r:embed="rId4"/>
          <a:stretch/>
        </p:blipFill>
        <p:spPr>
          <a:xfrm>
            <a:off x="417600" y="4653000"/>
            <a:ext cx="40831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920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0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6804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Краснодолин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pic>
        <p:nvPicPr>
          <p:cNvPr id="377" name="Picture 25" descr="https://im0-tub-ru.yandex.net/i?id=045b198a643febdc53409662b50c2298&amp;n=13"/>
          <p:cNvPicPr/>
          <p:nvPr/>
        </p:nvPicPr>
        <p:blipFill>
          <a:blip r:embed="rId1"/>
          <a:stretch/>
        </p:blipFill>
        <p:spPr>
          <a:xfrm>
            <a:off x="1258920" y="4797360"/>
            <a:ext cx="3048120" cy="1944720"/>
          </a:xfrm>
          <a:prstGeom prst="rect">
            <a:avLst/>
          </a:prstGeom>
          <a:ln w="0">
            <a:noFill/>
          </a:ln>
        </p:spPr>
      </p:pic>
    </p:spTree>
  </p:cSld>
  <p:transition advTm="5000">
    <p:wheel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исполнения бюджета Краснодолин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0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8151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Краснодоли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46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6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53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43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ext Box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ходы на реализацию муниципальных программ Краснодолинского сельсовета Советского района Курской области –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39640" y="1773360"/>
          <a:ext cx="8232840" cy="467496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96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ниципальная программа  «Развитие культуры муниципального образования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082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ниципальная программа «Энергосбережение и повышение энергетической эффективности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«Краснодолинский сельсовет Советского района Курской области» Благоустройство населенных пунктов в Краснодолинском сельсовете Советского района Курской области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14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ниципальная программа «Развитие муниципальной службы  в муниципальном образовании «Краснодолинский сельсовет» Советского района Советского района Курской области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2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3,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55"/>
          <p:cNvSpPr/>
          <p:nvPr/>
        </p:nvSpPr>
        <p:spPr>
          <a:xfrm>
            <a:off x="611280" y="6383160"/>
            <a:ext cx="821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умерация муниципальных программ  указана в соответствии с присвоенными им кодами для отражения в бюджете Краснодолин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" name="Picture 31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1871640" cy="576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ходы на реализацию муниципальных программ Краснодолинского сельсовета Советского района Курской области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00040" y="2071800"/>
          <a:ext cx="8232840" cy="423864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43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Краснодолинского сельсовета Советского района Курской области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46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ниципальная программа «Развитие и укрепление материально-технической базы муниципального образования «Краснодолинский сельсовет Советского района Курской области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43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Краснодолинского сельсовета Советского района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кой област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82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Picture 22" descr="https://pp.userapi.com/c636831/v636831813/58523/AA6KCFGMwyA.jpg?ava=1"/>
          <p:cNvPicPr/>
          <p:nvPr/>
        </p:nvPicPr>
        <p:blipFill>
          <a:blip r:embed="rId1"/>
          <a:stretch/>
        </p:blipFill>
        <p:spPr>
          <a:xfrm>
            <a:off x="966960" y="3213000"/>
            <a:ext cx="1904760" cy="1224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http://nepozdnonachat.ru/wp-content/uploads/2013/06/image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406680"/>
            <a:ext cx="3533760" cy="307656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"/>
          <p:cNvSpPr/>
          <p:nvPr/>
        </p:nvSpPr>
        <p:spPr>
          <a:xfrm>
            <a:off x="1187280" y="674640"/>
            <a:ext cx="6553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случае изменения параметров бюджета в течение года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изводилась его корректировка в соответствии с Положением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"О бюджетном процессе в Краснодолинском сельсовете Советского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йона Курской области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люс 9"/>
          <p:cNvSpPr/>
          <p:nvPr/>
        </p:nvSpPr>
        <p:spPr>
          <a:xfrm>
            <a:off x="4006800" y="3573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Минус 10"/>
          <p:cNvSpPr/>
          <p:nvPr/>
        </p:nvSpPr>
        <p:spPr>
          <a:xfrm>
            <a:off x="5030640" y="3573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793196" y="349667"/>
                </a:lnTo>
                <a:lnTo>
                  <a:pt x="793196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Умножение 11"/>
          <p:cNvSpPr/>
          <p:nvPr/>
        </p:nvSpPr>
        <p:spPr>
          <a:xfrm>
            <a:off x="7080120" y="3573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Деление 12"/>
          <p:cNvSpPr/>
          <p:nvPr/>
        </p:nvSpPr>
        <p:spPr>
          <a:xfrm>
            <a:off x="6165720" y="3591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457200" y="107808"/>
                </a:moveTo>
                <a:cubicBezTo>
                  <a:pt x="516589" y="107808"/>
                  <a:pt x="564733" y="155952"/>
                  <a:pt x="564733" y="215341"/>
                </a:cubicBezTo>
                <a:cubicBezTo>
                  <a:pt x="564733" y="274730"/>
                  <a:pt x="516589" y="322874"/>
                  <a:pt x="457200" y="322874"/>
                </a:cubicBezTo>
                <a:cubicBezTo>
                  <a:pt x="397811" y="322874"/>
                  <a:pt x="349667" y="274730"/>
                  <a:pt x="349667" y="215341"/>
                </a:cubicBezTo>
                <a:cubicBezTo>
                  <a:pt x="349667" y="155952"/>
                  <a:pt x="397811" y="107808"/>
                  <a:pt x="457200" y="107808"/>
                </a:cubicBezTo>
                <a:close/>
                <a:moveTo>
                  <a:pt x="457200" y="806592"/>
                </a:moveTo>
                <a:cubicBezTo>
                  <a:pt x="397811" y="806592"/>
                  <a:pt x="349667" y="758448"/>
                  <a:pt x="349667" y="699059"/>
                </a:cubicBezTo>
                <a:cubicBezTo>
                  <a:pt x="349667" y="639670"/>
                  <a:pt x="397811" y="591526"/>
                  <a:pt x="457200" y="591526"/>
                </a:cubicBezTo>
                <a:cubicBezTo>
                  <a:pt x="516589" y="591526"/>
                  <a:pt x="564733" y="639670"/>
                  <a:pt x="564733" y="699059"/>
                </a:cubicBezTo>
                <a:cubicBezTo>
                  <a:pt x="564733" y="758448"/>
                  <a:pt x="516589" y="806592"/>
                  <a:pt x="457200" y="806592"/>
                </a:cubicBezTo>
                <a:close/>
                <a:moveTo>
                  <a:pt x="121204" y="349667"/>
                </a:moveTo>
                <a:lnTo>
                  <a:pt x="793196" y="349667"/>
                </a:lnTo>
                <a:lnTo>
                  <a:pt x="793196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Равно 13"/>
          <p:cNvSpPr/>
          <p:nvPr/>
        </p:nvSpPr>
        <p:spPr>
          <a:xfrm>
            <a:off x="8269200" y="3573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http://s1v3.irc.lv/files/1/0/0/128/hd11ORgQ.jpeg"/>
          <p:cNvPicPr/>
          <p:nvPr/>
        </p:nvPicPr>
        <p:blipFill>
          <a:blip r:embed="rId1"/>
          <a:stretch/>
        </p:blipFill>
        <p:spPr>
          <a:xfrm>
            <a:off x="2268360" y="155736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2" descr=""/>
          <p:cNvPicPr/>
          <p:nvPr/>
        </p:nvPicPr>
        <p:blipFill>
          <a:blip r:embed="rId2"/>
          <a:stretch/>
        </p:blipFill>
        <p:spPr>
          <a:xfrm>
            <a:off x="2530440" y="658800"/>
            <a:ext cx="3778200" cy="9208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3" descr=""/>
          <p:cNvPicPr/>
          <p:nvPr/>
        </p:nvPicPr>
        <p:blipFill>
          <a:blip r:embed="rId3"/>
          <a:stretch/>
        </p:blipFill>
        <p:spPr>
          <a:xfrm>
            <a:off x="1951200" y="5303880"/>
            <a:ext cx="5449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«Бюджет для граждан» в доступной для широкого круга пользователей форме раскрывает информацию о исполнении  бюджета  Краснодолинского сельсовета Советского района Курской области на 2020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.А. Грызлова -Глава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.Н.Гуреева- Зам главы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.А.Усикова– главный бухгалтер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нформация подготовлена Администрацией Краснодолин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306632, Курская область, Советский район с.Красная Долин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Администрация Краснодолин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тел.: (47158) 3-42-2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Факс: (47158) 3-42-2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ea typeface="Microsoft YaHei"/>
              </a:rPr>
              <a:t>sel krasnodolinskiy@bk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250920" y="404640"/>
            <a:ext cx="843588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Что такое «Бюджет для граждан?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«</a:t>
            </a:r>
            <a:r>
              <a:rPr b="0" lang="ru-RU" sz="1800" spc="-1" strike="noStrike">
                <a:solidFill>
                  <a:srgbClr val="0293e0"/>
                </a:solidFill>
                <a:latin typeface="Times New Roman"/>
                <a:ea typeface="Microsoft YaHei"/>
              </a:rPr>
              <a:t>Бюджет для граждан» познакомит вас  об исполнении бюджета Краснодолинского сельсовета Советского района Курской области  за  2020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исполнения бюджета поселения затрагивает интересы каждого жителя  Краснодолинского сельсовета Советского района Курской области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480" cy="2265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8240" cy="21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457200" y="62064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Picture 2" descr="http://www.mordovmedia.ru/media/news/26192/afa853c20873dc823792c1a5128ce22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3400"/>
            <a:ext cx="3392280" cy="2543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ANd9GcQUOFnWck6Zdu4Icj3J8vpq53AENRbM9wXp0CyVohQ3AI-8w0lg"/>
          <p:cNvPicPr/>
          <p:nvPr/>
        </p:nvPicPr>
        <p:blipFill>
          <a:blip r:embed="rId3"/>
          <a:stretch/>
        </p:blipFill>
        <p:spPr>
          <a:xfrm>
            <a:off x="5724360" y="4121280"/>
            <a:ext cx="3083040" cy="2447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исполнения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Содержимое 3"/>
          <p:cNvSpPr/>
          <p:nvPr/>
        </p:nvSpPr>
        <p:spPr>
          <a:xfrm>
            <a:off x="971640" y="333360"/>
            <a:ext cx="777708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езвозмездные поступл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– средства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тупающие в бюджет от других бюджетов в форме дотаций, субсидий, субвенций и иных межбюджетных трансфертов, а также от физических и юридических лиц на безвозмездной основе, в том числе добровольные пожертвования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юдж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– финансовые плановые доходы и расходы на определенный период для обеспечения задач и функций государства и местного самоуправления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юджетная классифика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– группировка доходов, расходов и источников финансирования дефицитов бюджетов по различным направлениям, применяемая при составлении, исполнении бюджетов и формирования источников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Picture 2" descr="https://assets.oxu.az/uploads/W1siZiIsIjIwMTYvMTIvMjYvMTQvNTIvMDAvNjAxL0NhcmVlci1Jbi1GaW5hbmNlLmpwZyJdXQ?sha=04920138ee151540"/>
          <p:cNvPicPr/>
          <p:nvPr/>
        </p:nvPicPr>
        <p:blipFill>
          <a:blip r:embed="rId1"/>
          <a:stretch/>
        </p:blipFill>
        <p:spPr>
          <a:xfrm>
            <a:off x="1835280" y="4365720"/>
            <a:ext cx="5905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www.akildefteri.com.tr/wp-content/uploads/2016/10/Depositphotos_19194847_original-700x400.jpg"/>
          <p:cNvPicPr/>
          <p:nvPr/>
        </p:nvPicPr>
        <p:blipFill>
          <a:blip r:embed="rId1"/>
          <a:stretch/>
        </p:blipFill>
        <p:spPr>
          <a:xfrm>
            <a:off x="0" y="4357800"/>
            <a:ext cx="3635280" cy="24429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1"/>
          <p:cNvSpPr/>
          <p:nvPr/>
        </p:nvSpPr>
        <p:spPr>
          <a:xfrm>
            <a:off x="684360" y="116676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1547640" y="30240"/>
            <a:ext cx="56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ная роспись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документ, который составляется и ведется главным распорядителем бюджетных средств и главным администратором источников финансирования дефицита бюджета в целях исполнения бюджета по расходам и источникам финансирования дефицита бюдж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ассигнован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нежные средства, предусмотренные законом (решением) о бюджете, направленные на различные виды расходов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обязательств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язательства, предусмотренные законом (решением) о бюджете, подлежащие исполнению в соответствующем финансовом году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9560" y="333000"/>
            <a:ext cx="7102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задачи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логовой, бюджетной  политики  на 2020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Текст 2"/>
          <p:cNvSpPr/>
          <p:nvPr/>
        </p:nvSpPr>
        <p:spPr>
          <a:xfrm>
            <a:off x="826920" y="2276640"/>
            <a:ext cx="8137800" cy="38163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Реализация майских Указов Президента Российской Федераци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Наращивание налогового потенциала и стимулирование инвестиционной активно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Совершенствование методов налогового администрирования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Усиление межведомственного взаимодействия органов исполнительной власти по мобилизации имеющихся резервов и повышению собираемости платежей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Формирование гибкой и комплексной системы управления бюджетными расходам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Сохранение достигнутых в 2020 году индикаторов повышения оплаты труда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Повышение эффективности предоставления мер социальной поддержки с учетом критериев адресности и нуждаемости ее получателей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br>
              <a:rPr sz="2200"/>
            </a:b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одолинского сельсовета Советского района Курской области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042920" y="2060640"/>
          <a:ext cx="7804080" cy="4064040"/>
        </p:xfrm>
        <a:graphic>
          <a:graphicData uri="http://schemas.openxmlformats.org/drawingml/2006/table">
            <a:tbl>
              <a:tblPr/>
              <a:tblGrid>
                <a:gridCol w="2398680"/>
                <a:gridCol w="1727280"/>
                <a:gridCol w="1898640"/>
                <a:gridCol w="1779480"/>
              </a:tblGrid>
              <a:tr h="66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на 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5e5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3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Собственные налоговые и неналоговые доход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6641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41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4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3668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8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10310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10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исполнения расходов бюджета Краснодолинского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0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571760" y="1071720"/>
          <a:ext cx="6816600" cy="5368680"/>
        </p:xfrm>
        <a:graphic>
          <a:graphicData uri="http://schemas.openxmlformats.org/drawingml/2006/table">
            <a:tbl>
              <a:tblPr/>
              <a:tblGrid>
                <a:gridCol w="647640"/>
                <a:gridCol w="2857320"/>
                <a:gridCol w="1871640"/>
                <a:gridCol w="648000"/>
                <a:gridCol w="79200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020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48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8151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9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967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31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6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46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3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31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43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1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354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4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38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082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48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82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97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Name</cp:lastModifiedBy>
  <dcterms:modified xsi:type="dcterms:W3CDTF">2021-05-17T12:53:03Z</dcterms:modified>
  <cp:revision>485</cp:revision>
  <dc:subject/>
  <dc:title>Слайд 1</dc:title>
</cp:coreProperties>
</file>