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915480" y="744480"/>
            <a:ext cx="4962600" cy="37195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3849480" y="942948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487DC-67FF-4A51-84E9-6D97CA6EB79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1A7AD-485D-432B-81B6-E4AD0890EC9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F34A9-085E-46BE-86DC-A7C6998C56B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A96412-DA54-4B67-AA0A-C562FD5E7DE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11048-1AB0-4303-8835-6771438618E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8F06C-4622-453D-9B56-B5D5086F775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7C889-1663-453D-A77D-8ECBE577000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80F01-7AB8-4212-8943-8E482AE017D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95F50-BB2C-4E2A-9609-963F8BD8583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7DE80-C7C6-4EDD-A271-AFFFFF4CF0D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93758-C1C6-40F7-BD3B-6758F0F0B6F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528A8-F31F-48CA-8317-859732C0F5C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B52CB-B073-409D-AFA4-793D4BADE50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50AC6-9266-46AE-9A71-676F30C4F4B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09AF5-B7F9-47D5-BB74-8DB251729E6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00830-8ABB-4B7B-A239-308E53F18C6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38102-CEAC-4A84-94FB-D449339AB38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761C0-9047-4D0A-9F0C-471FAE8F9B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C9886-78A2-4FCD-810B-60E0380742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01339-07CA-4BCA-B6C3-B7407A0593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0B2A1-560E-48E1-BB86-ECD82C22CD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A3655-EBB9-4F87-9FDD-6A05DF4BB2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FBBDD-5094-49D5-8D85-3A7C955E07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086BB-2F50-43A1-9C89-8ECD043B0C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06DDD-3FC7-4076-AA3A-763EE5AAFD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9A786-DA62-4670-AF70-82D897649E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B9E79-3138-46BA-B080-C681B7BAB4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C537A-C8BE-4F40-A059-13CB09C8AB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173B2-BDA9-4A37-B4CE-73751DE650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C3DA3-DF3B-440D-B454-95F8C532E576}" type="slidenum"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1258920" y="333360"/>
            <a:ext cx="717084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БЮДЖЕТ ДЛЯ ГРАЖДАН КРАСНОДОЛИНСКОГО СЕЛЬСОВЕТА 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СОВЕТСКОГО РАЙОНА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КУРСКОЙ ОБЛАСТ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95280" y="6021360"/>
            <a:ext cx="8353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К решению Собрания  депутатов  Краснодолинского сельсовета Советского района Курской области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от 12.12.2019 года № 23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«О бюджете  Краснодолинского сельсовета Советского района  Курской области на 2020 год и плановый период 2021-2022годов»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Picture 6" descr="G:\ФОТО ВУС\IMG_20150729_104222.jpg"/>
          <p:cNvPicPr/>
          <p:nvPr/>
        </p:nvPicPr>
        <p:blipFill>
          <a:blip r:embed="rId1"/>
          <a:stretch/>
        </p:blipFill>
        <p:spPr>
          <a:xfrm>
            <a:off x="3405240" y="3321000"/>
            <a:ext cx="2879640" cy="223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6464160" y="2276640"/>
            <a:ext cx="2478240" cy="2089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C:\Users\Irina\Desktop\фото\для Усиковой\18000_20110824_231934.jpg"/>
          <p:cNvPicPr/>
          <p:nvPr/>
        </p:nvPicPr>
        <p:blipFill>
          <a:blip r:embed="rId3"/>
          <a:stretch/>
        </p:blipFill>
        <p:spPr>
          <a:xfrm>
            <a:off x="395280" y="1844640"/>
            <a:ext cx="2590920" cy="226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571680" y="500040"/>
            <a:ext cx="8126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Times New Roman"/>
              </a:rPr>
              <a:t>Меры социальной поддержки, оказываемые отдельным категориям граждан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85840" y="2000160"/>
          <a:ext cx="8753400" cy="2702160"/>
        </p:xfrm>
        <a:graphic>
          <a:graphicData uri="http://schemas.openxmlformats.org/drawingml/2006/table">
            <a:tbl>
              <a:tblPr/>
              <a:tblGrid>
                <a:gridCol w="6432480"/>
                <a:gridCol w="1285920"/>
                <a:gridCol w="1035000"/>
              </a:tblGrid>
              <a:tr h="892080"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еры социальной поддержки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ате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2020 год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83480"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8136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8136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68040">
                <a:tc>
                  <a:txBody>
                    <a:bodyPr lIns="36000" rIns="36000" tIns="66240" bIns="36000" anchor="t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лата пенсий за выслугу лет и доплат к пенсиям муниципальных служащих Краснодолинского сельсовета Советского район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1480">
                <a:tc gridSpan="2"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</p:spTree>
  </p:cSld>
  <p:transition advTm="5000">
    <p:wheel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250920" y="0"/>
            <a:ext cx="87138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«Программная» структура расходов </a:t>
            </a:r>
            <a:br>
              <a:rPr sz="2000"/>
            </a:b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бюджета Краснодолинского сельсовета</a:t>
            </a:r>
            <a:br>
              <a:rPr sz="2000"/>
            </a:b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Советского района Курской области на 2020 год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14200" y="1143000"/>
          <a:ext cx="8288280" cy="5143680"/>
        </p:xfrm>
        <a:graphic>
          <a:graphicData uri="http://schemas.openxmlformats.org/drawingml/2006/table">
            <a:tbl>
              <a:tblPr/>
              <a:tblGrid>
                <a:gridCol w="5418360"/>
                <a:gridCol w="1650960"/>
                <a:gridCol w="1218960"/>
              </a:tblGrid>
              <a:tr h="635040"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84600" bIns="46800" anchor="b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600">
                <a:tc rowSpan="2">
                  <a:txBody>
                    <a:bodyPr lIns="90000" rIns="90000" tIns="8460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7704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98560">
                <a:tc>
                  <a:txBody>
                    <a:bodyPr lIns="36000" rIns="36000" tIns="66240" bIns="36000" anchor="b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а, 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6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7200">
                <a:tc>
                  <a:txBody>
                    <a:bodyPr lIns="36000" rIns="36000" tIns="608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98560">
                <a:tc>
                  <a:txBody>
                    <a:bodyPr lIns="36000" rIns="36000" tIns="662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ых программ Краснодолинского сельсовета Советского района 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89,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,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06520">
                <a:tc>
                  <a:txBody>
                    <a:bodyPr lIns="36000" rIns="36000" tIns="662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непрограммную деятельност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70,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,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Расходы бюджета Краснодолинского сельсовета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 Советского района Курской области на 2020 год 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в разрезе муниципальных программ 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[1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571680" y="785880"/>
            <a:ext cx="8269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39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ходы на реализацию муниципальных программ Краснодолинского сельсовета Советского района Курской области – 3089,6 тыс. рублей, в том числе по направлениям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39640" y="1773360"/>
          <a:ext cx="8232840" cy="4481280"/>
        </p:xfrm>
        <a:graphic>
          <a:graphicData uri="http://schemas.openxmlformats.org/drawingml/2006/table">
            <a:tbl>
              <a:tblPr/>
              <a:tblGrid>
                <a:gridCol w="6964560"/>
                <a:gridCol w="1268280"/>
              </a:tblGrid>
              <a:tr h="55548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униципальной программы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12880">
                <a:tc>
                  <a:txBody>
                    <a:bodyPr lIns="90000" rIns="90000" tIns="723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ая программа  «Развитие культуры муниципального образования «Краснодолинский сельсовет Советского района Курской области» 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2212,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723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ая программа «Энергосбережение и повышение энергетической эффективности в муниципальном образовании «Краснодолинский сельсовет Советского района Курской области» 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723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ая программа «Обеспечение доступным и комфортным жильем и коммунальными услугами граждан в муниципальном образовании«Краснодолинский сельсовет Советского района Курской области» Благоустройство населенных пунктов в Краснодолинском сельсовете Советского района Курской области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200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723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ая программа «Повышение эффективности работы с молодежью, организация отдыха и оздоровления детей, молодежи, развитие физической культуры и спорта в муниципальном образовании «Краснодолинский сельсовет Советского района Курской области» 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723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ая программа «Развитие муниципальной службы  в муниципальном образовании «Краснодолинский сельсовет» Советского района Советского района Курской области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2,9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tIns="7236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ая программа  «Защита населения и территории от чрезвычайных ситуаций, обеспечение пожарной безопасности и безопасности людей на водных объектах в муниципальном образовании «Краснодолинский сельсовет Советского района Курской области» 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6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Rectangle 55"/>
          <p:cNvSpPr/>
          <p:nvPr/>
        </p:nvSpPr>
        <p:spPr>
          <a:xfrm>
            <a:off x="611280" y="6383160"/>
            <a:ext cx="821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умерация муниципальных программ  указана в соответствии с присвоенными им кодами для отражения в бюджете Краснодолинского сельсовета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оветского района  Курской области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wheel spokes="8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642960" y="785880"/>
            <a:ext cx="8197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39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ходы на реализацию муниципальных программ Краснодолинского сельсовета Советского района Курской области, в том числе по направлениям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00040" y="2071800"/>
          <a:ext cx="8232840" cy="3862440"/>
        </p:xfrm>
        <a:graphic>
          <a:graphicData uri="http://schemas.openxmlformats.org/drawingml/2006/table">
            <a:tbl>
              <a:tblPr/>
              <a:tblGrid>
                <a:gridCol w="6639120"/>
                <a:gridCol w="1593720"/>
              </a:tblGrid>
              <a:tr h="56520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государственной программы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37160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ая программа «Развитие и использование информационных и телекоммуникационных технологий в Администрации Краснодолинского сельсовета Советского района Курской области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84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ая программа «Развитие и укрепление материально-технической базы муниципального образования «Краснодолинский сельсовет Советского района Курской области»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562,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72360" anchor="t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лата пенсий за выслугу лет и доплат к пенсиям муниципальных служащих Краснодолинского сельсовета Советского района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ской области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00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0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374760" y="631800"/>
            <a:ext cx="839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Муниципальный долг Краснодолинского сельсовета Советского района Курской област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4638600" y="2914560"/>
            <a:ext cx="3848040" cy="3141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679320" y="3214800"/>
            <a:ext cx="732168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Расходы на обслуживание муниципального долг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214720" y="3786120"/>
          <a:ext cx="4143240" cy="2286000"/>
        </p:xfrm>
        <a:graphic>
          <a:graphicData uri="http://schemas.openxmlformats.org/drawingml/2006/table">
            <a:tbl>
              <a:tblPr/>
              <a:tblGrid>
                <a:gridCol w="4143240"/>
              </a:tblGrid>
              <a:tr h="816120">
                <a:tc>
                  <a:txBody>
                    <a:bodyPr tIns="684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tIns="5148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20640">
                <a:tc>
                  <a:txBody>
                    <a:bodyPr tIns="684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97" name="Text Box 29"/>
          <p:cNvSpPr/>
          <p:nvPr/>
        </p:nvSpPr>
        <p:spPr>
          <a:xfrm>
            <a:off x="571680" y="1969920"/>
            <a:ext cx="471456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 u="sng">
                <a:solidFill>
                  <a:srgbClr val="660066"/>
                </a:solidFill>
                <a:uFillTx/>
                <a:latin typeface="Times New Roman"/>
              </a:rPr>
              <a:t>Муниципальный долг</a:t>
            </a:r>
            <a:r>
              <a:rPr b="0" i="1" lang="ru-RU" sz="1300" spc="-1" strike="noStrike">
                <a:solidFill>
                  <a:srgbClr val="800080"/>
                </a:solidFill>
                <a:latin typeface="Times New Roman"/>
              </a:rPr>
              <a:t> – это обязательства, возникающие из муниципальных заимствований (т.е. кредитов, муниципальных ценных бумаг), гарантий по обязательствам третьих лиц, другие обязательства, принятые на себя Краснодолинским сельсоветом  Советского района Курской области.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468360" y="404640"/>
            <a:ext cx="8136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Бюджет для граждан» в доступной для широкого круга пользователей форме раскрывает информацию о бюджете  Краснодолинского сельсовета Советского района Курской области на 2019 год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ординаторы проекта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.А.Усикова– главный бухгалтер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подготовлена Администрацией Краснодолинского сельсовета Советского района Курской области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e3e6"/>
            </a:gs>
            <a:gs pos="100000">
              <a:srgbClr val="ccffcc"/>
            </a:gs>
          </a:gsLst>
          <a:lin ang="18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468360" y="765000"/>
            <a:ext cx="8218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Контактная информация </a:t>
            </a:r>
            <a:br>
              <a:rPr sz="2800"/>
            </a:b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ля взаимодействия с гражданами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306632, Курская область, Советский район с.Красная Долина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Администрация Краснодолинского сельсовета Советского района Курской области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тел.: (47158) 3-42-24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Факс: (47158) 3-42-24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Е</a:t>
            </a:r>
            <a:r>
              <a:rPr b="0" lang="fr-FR" sz="2000" spc="-1" strike="noStrike">
                <a:solidFill>
                  <a:srgbClr val="003366"/>
                </a:solidFill>
                <a:latin typeface="Times New Roman"/>
              </a:rPr>
              <a:t>-mail: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</a:rPr>
              <a:t>sel krasnodolinskiy@bk.ru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250920" y="404640"/>
            <a:ext cx="8435880" cy="633744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39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Что такое «Бюджет для граждан?»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9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«</a:t>
            </a:r>
            <a:r>
              <a:rPr b="0" lang="ru-RU" sz="1800" spc="-1" strike="noStrike">
                <a:solidFill>
                  <a:srgbClr val="009973"/>
                </a:solidFill>
                <a:latin typeface="Times New Roman"/>
              </a:rPr>
              <a:t>Бюджет для граждан» познакомит вас  о бюджете Краснодолинского сельсовета Советского района Курской области  на  2020 год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9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Представленная информация предназначена для широкого круга пользователей и будет интересна и полезна как студентам, педагогам, врачам, молодым семьям, так и муниципальным служащим, пенсионерам и другим категориям населения, так как бюджет поселения затрагивает интересы каждого жителя  Краснодолинского сельсовета Советского района Курской области.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9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Мы постарались в доступной и понятной форме для граждан, показать основные показатели исполнения  бюджета нашего сельсовета.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539640" y="3860640"/>
            <a:ext cx="3030480" cy="2265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6300720" y="3860640"/>
            <a:ext cx="2208240" cy="21956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Бюджет – 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Основные характеристики бюджет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39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оходы – Расходы = Дефицит (Профицит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ефицит – превышение расходов над до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точниках покрыти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дефицита – использовать остатки, взять в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официт – превышение доходов над рас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пользовании доходов –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капливать резервы, остатки, погашать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000">
    <p:plus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53964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Times New Roman"/>
              </a:rPr>
              <a:t>Основные характеристики  бюджета Краснодолинского сельсовета Советского района Курской области              на 2020год 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-57240" y="4827600"/>
            <a:ext cx="24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928800" y="2060640"/>
          <a:ext cx="7073640" cy="3827520"/>
        </p:xfrm>
        <a:graphic>
          <a:graphicData uri="http://schemas.openxmlformats.org/drawingml/2006/table">
            <a:tbl>
              <a:tblPr/>
              <a:tblGrid>
                <a:gridCol w="4838760"/>
                <a:gridCol w="2234880"/>
              </a:tblGrid>
              <a:tr h="400320">
                <a:tc>
                  <a:txBody>
                    <a:bodyPr lIns="90000" rIns="90000"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59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(тыс. рублей)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7992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35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тверждено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673,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960,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12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87,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1000"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Доходы бюджета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AutoShape 2"/>
          <p:cNvSpPr/>
          <p:nvPr/>
        </p:nvSpPr>
        <p:spPr>
          <a:xfrm>
            <a:off x="3132000" y="1341360"/>
            <a:ext cx="2778120" cy="2468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100000">
                <a:srgbClr val="cc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ДОХОДЫ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безвозмездные и безвозвратные поступления денежных средств в бюджет 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Oval 3"/>
          <p:cNvSpPr/>
          <p:nvPr/>
        </p:nvSpPr>
        <p:spPr>
          <a:xfrm>
            <a:off x="395280" y="112536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d6e0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налогов, установленных Налоговым кодексом Российской Федерации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налог на доходы физических лиц; -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имущество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государственная пошлин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совокупный доход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Oval 4"/>
          <p:cNvSpPr/>
          <p:nvPr/>
        </p:nvSpPr>
        <p:spPr>
          <a:xfrm>
            <a:off x="6300720" y="126828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ff00ff"/>
              </a:gs>
            </a:gsLst>
            <a:lin ang="81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БЕЗВОЗМЕЗДНЫЕ ПОСТУПЛЕНИЯ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в бюджет на безвозмездной и безвозвратной основе из областного бюджета (дотации, субсидии, субвенции), а также перечисления от физических и юридических лиц (кроме налоговых и неналоговых доходов)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Oval 5"/>
          <p:cNvSpPr/>
          <p:nvPr/>
        </p:nvSpPr>
        <p:spPr>
          <a:xfrm>
            <a:off x="3132000" y="4076640"/>
            <a:ext cx="2808360" cy="26337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cccc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Е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других пошлин и сборов, установленных законодательством Российской Федерации, а также штрафов за нарушение законодательства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оходы от использования муниципального имуществ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лата за негативное воздействие на окружающую среду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Line 6"/>
          <p:cNvSpPr/>
          <p:nvPr/>
        </p:nvSpPr>
        <p:spPr>
          <a:xfrm>
            <a:off x="2916360" y="2637000"/>
            <a:ext cx="760320" cy="226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Line 7"/>
          <p:cNvSpPr/>
          <p:nvPr/>
        </p:nvSpPr>
        <p:spPr>
          <a:xfrm flipH="1">
            <a:off x="5432040" y="2637000"/>
            <a:ext cx="871560" cy="298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Line 8"/>
          <p:cNvSpPr/>
          <p:nvPr/>
        </p:nvSpPr>
        <p:spPr>
          <a:xfrm flipV="1">
            <a:off x="4500720" y="3786120"/>
            <a:ext cx="1440" cy="2937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8000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700" spc="-1" strike="noStrike">
                <a:solidFill>
                  <a:srgbClr val="000099"/>
                </a:solidFill>
                <a:latin typeface="Times New Roman"/>
              </a:rPr>
              <a:t>Распределение налоговых доходов между бюджетами на территории Курской области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0" y="357120"/>
          <a:ext cx="9110520" cy="6340680"/>
        </p:xfrm>
        <a:graphic>
          <a:graphicData uri="http://schemas.openxmlformats.org/drawingml/2006/table">
            <a:tbl>
              <a:tblPr/>
              <a:tblGrid>
                <a:gridCol w="738360"/>
                <a:gridCol w="4860720"/>
                <a:gridCol w="878040"/>
                <a:gridCol w="804600"/>
                <a:gridCol w="1024200"/>
                <a:gridCol w="804600"/>
              </a:tblGrid>
              <a:tr h="204120">
                <a:tc gridSpan="2" row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и и сборы, установленные законодательством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ровни бюджета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ff"/>
                        </a:gs>
                        <a:gs pos="100000">
                          <a:srgbClr val="66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8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ластной бюджет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округ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муниципальных район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и сельских поселений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18160">
                <a:tc rowSpan="20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едер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прибыль организаций по ставке, установленной для субъектов Российской Федераци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доходы физических лиц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6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кроме налога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2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Акцизы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 этиловый из пищевого сырь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осодержащую продукцию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 алкогольную продукцию (пиво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алкогольную продукцию (без пив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0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оходы от уплаты акцизов на нефтепродукты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. Налоги со специальными налоговыми режимами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упрощен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налог на вмененный доход для отдельных видов деятельност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патент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. Налог на добычу полезных ископаемых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общераспространенных полезных ископаемых (песок, глина, мел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прочих полезных ископаемых (железная руд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. Сборы за пользование объектами животного мира (олень, лось, косуля, кабан, барсук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0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. Государственная пошлина (в зависимости от установленных полномочий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rowSpan="3">
                  <a:txBody>
                    <a:bodyPr lIns="36000" rIns="36000" tIns="4752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егион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организаций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игорный бизнес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Транспорт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row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ст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физических лиц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Земель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advTm="10000">
    <p:push dir="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Структура расходов бюджета Краснодолинскогосельсовета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Советского района Курской области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по разделам функциональной классификации на 2020 год 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571760" y="1071720"/>
          <a:ext cx="6816600" cy="5151240"/>
        </p:xfrm>
        <a:graphic>
          <a:graphicData uri="http://schemas.openxmlformats.org/drawingml/2006/table">
            <a:tbl>
              <a:tblPr/>
              <a:tblGrid>
                <a:gridCol w="647640"/>
                <a:gridCol w="3097080"/>
                <a:gridCol w="3071880"/>
              </a:tblGrid>
              <a:tr h="299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2552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6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9916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39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49,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68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80,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50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56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38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552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460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12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552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15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cover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Расходы бюджета Краснодолинского сельсовета Советского района Курской области на культуру в 2020 году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– 2212,2 тыс. рубл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Содержимое 6" descr=""/>
          <p:cNvPicPr/>
          <p:nvPr/>
        </p:nvPicPr>
        <p:blipFill>
          <a:blip r:embed="rId1"/>
          <a:stretch/>
        </p:blipFill>
        <p:spPr>
          <a:xfrm>
            <a:off x="414360" y="1197000"/>
            <a:ext cx="8226360" cy="4522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G:\ФОТО ВУС\MOV070.MOD_snapshot_03.17_[2015.07.01_20.24.07].jpg"/>
          <p:cNvPicPr/>
          <p:nvPr/>
        </p:nvPicPr>
        <p:blipFill>
          <a:blip r:embed="rId2"/>
          <a:stretch/>
        </p:blipFill>
        <p:spPr>
          <a:xfrm>
            <a:off x="611280" y="1438200"/>
            <a:ext cx="2952720" cy="2468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1" descr="G:\ФОТО\IMG_1430.JPG"/>
          <p:cNvPicPr/>
          <p:nvPr/>
        </p:nvPicPr>
        <p:blipFill>
          <a:blip r:embed="rId3"/>
          <a:stretch/>
        </p:blipFill>
        <p:spPr>
          <a:xfrm>
            <a:off x="417600" y="4365720"/>
            <a:ext cx="31464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1:34:59Z</dcterms:created>
  <dc:creator/>
  <dc:description/>
  <dc:language>en-US</dc:language>
  <cp:lastModifiedBy>Irina</cp:lastModifiedBy>
  <dcterms:modified xsi:type="dcterms:W3CDTF">2019-12-20T08:24:05Z</dcterms:modified>
  <cp:revision>464</cp:revision>
  <dc:subject/>
  <dc:title>Слайд 1</dc:title>
</cp:coreProperties>
</file>