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9FC72-2946-4E17-A2F5-0946E389AD9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E8AF7-0D82-4149-A57F-68E1C28A5A7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4507C-E2F2-48A0-BFE3-E5F5C4B55F5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5D1FF-886D-42DF-A033-72DAC41F7FB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55B4A-D40F-474F-B644-0973EE15961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8EE01-973F-41CE-BF5E-AC4AAA705F0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9BAE4-77C2-48DD-A682-A40E04EEA98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537E0-9C89-452E-92B3-BE8DE70C7A2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CA551-9BEE-4528-A694-D3BAF026E07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D5CE9-A0B6-4AAC-B83F-390426671EF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86A19-9B7F-4C1F-9BD5-A896AF79D50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FFA28-E9C4-4117-B0A5-73D187670B4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D824B-A6B1-4F9D-99BD-02FA4A41932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E5E04-BA54-429B-BD05-5E93F206F37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DD600-D10D-44A2-869A-881B76C5578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6EE2C-AEE5-4323-9B99-DA2BB0FCDC3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EA776-A0CC-4BE2-93B2-BD0CD0B74F7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CE95-5A93-49D4-B137-BC21F5B08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DEEA-F248-4539-B023-806AC6251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3518-774F-42EA-994D-8C54E4D5D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1798-C6BE-407F-A3D8-09FBE7836E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1E5C-1529-4D9F-851C-56BEDBA231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51C5-F8BB-4746-9765-5FC42A3C1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7527-D81E-4E50-A95F-7A3187BCB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F9E45-1AB5-475A-B3DF-1D57047DC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92A2-F17A-4FB5-B869-90EF4D67D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D211-0725-4DDC-91E4-8390E757E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67F2-6A9E-4F22-96B6-D363C69F0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60CC-9005-4E52-AE97-150541AE4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4B0A3-2B45-4229-8B32-ADB780D00203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1258920" y="333360"/>
            <a:ext cx="71708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КРАСНОДОЛИНСКОГО СЕЛЬСОВЕТА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ОВЕТСКОГО РАЙОНА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решению Собрания  депутатов  Краснодолинского с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от 10.12.2018 года № 35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 бюджете  Краснодолинского сельсовета Советского района  Курской области на 2019 год и плановый период 2020-2021годов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6" descr="G:\ФОТО ВУС\IMG_20150729_104222.jpg"/>
          <p:cNvPicPr/>
          <p:nvPr/>
        </p:nvPicPr>
        <p:blipFill>
          <a:blip r:embed="rId1"/>
          <a:stretch/>
        </p:blipFill>
        <p:spPr>
          <a:xfrm>
            <a:off x="3405240" y="3321000"/>
            <a:ext cx="287964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G:\ФОТО ВУС\DSCF0843.JPG"/>
          <p:cNvPicPr/>
          <p:nvPr/>
        </p:nvPicPr>
        <p:blipFill>
          <a:blip r:embed="rId2"/>
          <a:stretch/>
        </p:blipFill>
        <p:spPr>
          <a:xfrm>
            <a:off x="250920" y="1989000"/>
            <a:ext cx="2844720" cy="2211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6464160" y="2276640"/>
            <a:ext cx="247824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85840" y="2000160"/>
          <a:ext cx="8753400" cy="2702160"/>
        </p:xfrm>
        <a:graphic>
          <a:graphicData uri="http://schemas.openxmlformats.org/drawingml/2006/table">
            <a:tbl>
              <a:tblPr/>
              <a:tblGrid>
                <a:gridCol w="6432480"/>
                <a:gridCol w="1285920"/>
                <a:gridCol w="1035000"/>
              </a:tblGrid>
              <a:tr h="892080"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19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348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68040">
                <a:tc>
                  <a:txBody>
                    <a:bodyPr lIns="36000" rIns="36000" tIns="66240" bIns="36000" anchor="t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а пенсий за выслугу лет и доплат к пенсиям муниципальных служащих Краснодолинского сельсовета Советского район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1480">
                <a:tc gridSpan="2"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бюджета Краснодолин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19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14200" y="1143000"/>
          <a:ext cx="8288280" cy="5143680"/>
        </p:xfrm>
        <a:graphic>
          <a:graphicData uri="http://schemas.openxmlformats.org/drawingml/2006/table">
            <a:tbl>
              <a:tblPr/>
              <a:tblGrid>
                <a:gridCol w="5418360"/>
                <a:gridCol w="1650960"/>
                <a:gridCol w="1218960"/>
              </a:tblGrid>
              <a:tr h="635040"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8460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41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608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Краснодолин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7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3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Краснодолинского сельсовета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19 год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571680" y="785880"/>
            <a:ext cx="8269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Краснодолинского сельсовета Советского района Курской области – 2507,5,0 тыс. 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9640" y="1773360"/>
          <a:ext cx="8232840" cy="4481280"/>
        </p:xfrm>
        <a:graphic>
          <a:graphicData uri="http://schemas.openxmlformats.org/drawingml/2006/table">
            <a:tbl>
              <a:tblPr/>
              <a:tblGrid>
                <a:gridCol w="6964560"/>
                <a:gridCol w="1268280"/>
              </a:tblGrid>
              <a:tr h="5554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12880">
                <a:tc>
                  <a:txBody>
                    <a:bodyPr lIns="90000" rIns="90000" tIns="723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 «Развитие культуры муниципального образования «Краснодолинский сельсовет Советского района Курской области»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793,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723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Энергосбережение и повышение энергетической эффективности в муниципальном образовании «Краснодолинский сельсовет Советского района Курской области»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723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м образовании«Краснодолинский сельсовет Советского района Курской области» Благоустройство населенных пунктов в Краснодолинском сельсовете Советского района Курской области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15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723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Краснодолинский сельсовет Советского района Курской области»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723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Развитие муниципальной службы  в муниципальном образовании «Краснодолинский сельсовет» Советского района Советского района Курской области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2,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7236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 «Защита населения и территории от чрезвычайных ситуаций, обеспечение пожарной безопасности и безопасности людей на водных объектах в муниципальном образовании «Краснодолинский сельсовет Советского района Курской области»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8,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Rectangle 55"/>
          <p:cNvSpPr/>
          <p:nvPr/>
        </p:nvSpPr>
        <p:spPr>
          <a:xfrm>
            <a:off x="611280" y="6383160"/>
            <a:ext cx="821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умерация муниципальных программ  указана в соответствии с присвоенными им кодами для отражения в бюджете Краснодолинского сельсовета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ветского района  Курской област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42960" y="785880"/>
            <a:ext cx="8197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2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Краснодолинского сельсовета Советского района Курской области –2507,5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2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ыс.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00040" y="2071800"/>
          <a:ext cx="8232840" cy="3862440"/>
        </p:xfrm>
        <a:graphic>
          <a:graphicData uri="http://schemas.openxmlformats.org/drawingml/2006/table">
            <a:tbl>
              <a:tblPr/>
              <a:tblGrid>
                <a:gridCol w="6639120"/>
                <a:gridCol w="1593720"/>
              </a:tblGrid>
              <a:tr h="56520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7160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Развитие и использование информационных и телекоммуникационных технологий в Администрации Краснодолинского сельсовета Советского района Курской области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14,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Развитие и укрепление материально-технической базы муниципального образования «Краснодолинский сельсовет Советского района Курской области»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60,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507,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Краснодолин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14720" y="3786120"/>
          <a:ext cx="4143240" cy="2286000"/>
        </p:xfrm>
        <a:graphic>
          <a:graphicData uri="http://schemas.openxmlformats.org/drawingml/2006/table">
            <a:tbl>
              <a:tblPr/>
              <a:tblGrid>
                <a:gridCol w="414324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5" name="Text Box 29"/>
          <p:cNvSpPr/>
          <p:nvPr/>
        </p:nvSpPr>
        <p:spPr>
          <a:xfrm>
            <a:off x="571680" y="1969920"/>
            <a:ext cx="4714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Краснодолин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Краснодолинского сельсовета Советского района Курской области на 2019 год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.А.Усикова– главный бухгалтер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Краснодолин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06632, Курская область, Советский район с.Красная Долин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Администрация Краснодолин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л.: (47158) 3-42-24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акс: (47158) 3-42-24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sel krasnodolinskiy@bk.ru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Основные характеристики  бюджета Краснодолинского сельсовета Советского района Курской области              на 2019 год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28800" y="2060640"/>
          <a:ext cx="7073640" cy="3827520"/>
        </p:xfrm>
        <a:graphic>
          <a:graphicData uri="http://schemas.openxmlformats.org/drawingml/2006/table">
            <a:tbl>
              <a:tblPr/>
              <a:tblGrid>
                <a:gridCol w="4838760"/>
                <a:gridCol w="223488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838,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141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1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2,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Oval 3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Краснодолинского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на 2019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71760" y="1071720"/>
          <a:ext cx="6816600" cy="5151240"/>
        </p:xfrm>
        <a:graphic>
          <a:graphicData uri="http://schemas.openxmlformats.org/drawingml/2006/table">
            <a:tbl>
              <a:tblPr/>
              <a:tblGrid>
                <a:gridCol w="647640"/>
                <a:gridCol w="3097080"/>
                <a:gridCol w="307188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552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41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3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13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6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7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56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46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3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15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Расходы бюджета Краснодолинского сельсовета Советского района Курской области на культуру в 2019 году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– 1793,9 тыс. руб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6" descr=""/>
          <p:cNvPicPr/>
          <p:nvPr/>
        </p:nvPicPr>
        <p:blipFill>
          <a:blip r:embed="rId1"/>
          <a:stretch/>
        </p:blipFill>
        <p:spPr>
          <a:xfrm>
            <a:off x="414360" y="1197000"/>
            <a:ext cx="8226360" cy="4522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G:\ФОТО ВУС\MOV070.MOD_snapshot_03.17_[2015.07.01_20.24.07].jpg"/>
          <p:cNvPicPr/>
          <p:nvPr/>
        </p:nvPicPr>
        <p:blipFill>
          <a:blip r:embed="rId2"/>
          <a:stretch/>
        </p:blipFill>
        <p:spPr>
          <a:xfrm>
            <a:off x="611280" y="1438200"/>
            <a:ext cx="2952720" cy="2468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1" descr="G:\ФОТО\IMG_1430.JPG"/>
          <p:cNvPicPr/>
          <p:nvPr/>
        </p:nvPicPr>
        <p:blipFill>
          <a:blip r:embed="rId3"/>
          <a:stretch/>
        </p:blipFill>
        <p:spPr>
          <a:xfrm>
            <a:off x="417600" y="4365720"/>
            <a:ext cx="31464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>Irina</cp:lastModifiedBy>
  <dcterms:modified xsi:type="dcterms:W3CDTF">2019-02-21T11:58:10Z</dcterms:modified>
  <cp:revision>461</cp:revision>
  <dc:subject/>
  <dc:title>Слайд 1</dc:title>
</cp:coreProperties>
</file>